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7031"/>
        <c:axId val="81142768"/>
      </c:barChart>
      <c:catAx>
        <c:axId val="64757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42768"/>
        <c:crosses val="autoZero"/>
        <c:auto val="1"/>
        <c:lblAlgn val="ctr"/>
        <c:lblOffset val="100"/>
        <c:noMultiLvlLbl val="0"/>
      </c:catAx>
      <c:valAx>
        <c:axId val="81142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7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CD8-FB5E-4899-B778-975B0CC2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040-0807-4742-8832-2430FE23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BDF-818F-4DEC-989B-7441B5F5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DAF-FEDA-4A46-BAC7-4E3FA00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333-2B2B-4C03-BF28-C35CFDBD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74E-F6C6-4BF7-99B8-6552FB2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527-D93F-4BB2-87FA-4197DB1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E15-E6D9-4FB8-AB0D-0D68278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242-64C4-4CD0-BED0-E6589F2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614-B057-4F54-A62A-A8058D3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13B-11AB-456A-8F6E-530A870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728-F458-42E9-ADC1-94067E8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D8617-EA27-4C0C-9D5D-3C52942A9B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