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88230"/>
        <c:axId val="8130205"/>
      </c:barChart>
      <c:catAx>
        <c:axId val="29288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205"/>
        <c:crosses val="autoZero"/>
        <c:auto val="1"/>
        <c:lblAlgn val="ctr"/>
        <c:lblOffset val="100"/>
        <c:noMultiLvlLbl val="0"/>
      </c:catAx>
      <c:valAx>
        <c:axId val="8130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8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636-8181-4A15-8530-4EC9C652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936-7AD6-445E-8770-B4FC5588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2AF-F736-488B-941B-64784D10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D18-1D7A-49B8-9C17-A1F6289E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D19-B37D-41C8-B137-3E6F4523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D38-8356-429E-A41C-67322974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9E8-5EFD-4FBE-915B-D49D667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4FD-515F-4CE6-8D00-0CA825C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954-65D4-428D-9362-DC25E20E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CF3-E954-4CEE-AFA7-E22CC8B3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630-44DA-4708-B531-FD44CE6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660-71C7-4D34-BD2B-C397676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3558-785C-41A9-A121-B8777767A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