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2372483"/>
        <c:axId val="3800163"/>
      </c:barChart>
      <c:catAx>
        <c:axId val="6237248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00163"/>
        <c:crosses val="autoZero"/>
        <c:auto val="1"/>
        <c:lblAlgn val="ctr"/>
        <c:lblOffset val="100"/>
        <c:noMultiLvlLbl val="0"/>
      </c:catAx>
      <c:valAx>
        <c:axId val="380016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37248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1020A-AB98-47E1-B43C-61A410AC3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C4BE4-83BB-4179-BE8D-2CCE663E3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CAC1C-DFA7-42A8-85B5-B36C1E2F2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140CC-1F1D-4129-98B1-BBE20CC50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5A0B2-D37A-4AA7-9C51-84598B826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DEAA6-09AE-4C67-8151-613A4DD35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42A08-7287-4519-8DAF-A15439542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8C623-CE2F-487A-87AA-C3533AB7E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8C867-69F8-4FDD-A9FF-2F8978CAA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63CDB-ECAD-4F87-8E10-D9A66E8D9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F8312-41A5-4C79-A908-3C1EBBE20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24AD0-EE20-4378-AC13-A75596EF4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CA87D7-D547-4C78-87F3-A5EE13C504A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