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93733"/>
        <c:axId val="72966377"/>
      </c:barChart>
      <c:catAx>
        <c:axId val="46293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6377"/>
        <c:crosses val="autoZero"/>
        <c:auto val="1"/>
        <c:lblAlgn val="ctr"/>
        <c:lblOffset val="100"/>
        <c:noMultiLvlLbl val="0"/>
      </c:catAx>
      <c:valAx>
        <c:axId val="72966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93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02F-62A4-4831-BAFD-7A7240B3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581-A6FE-4F55-8326-9F8448F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0E1-DEF0-45C7-81BB-F57F0637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DF1-8DC6-416D-B396-DD37922C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C74-9705-47D9-BBBE-968BA3D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E29-9AF4-413B-86F8-DD4118E3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7C2-1293-49AC-9DC5-09BA85A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6DA-176E-42F9-96D0-3A9EA68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6ED-1AB3-42DB-B498-7EFF75A4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089-E917-47DC-82CC-A1F38C2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BAE-4675-448A-85B2-AD69608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CEC-3A32-4F68-B839-AEDA681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7FC47-75B3-45F6-A67C-411FF02B75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