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27892"/>
        <c:axId val="11033254"/>
      </c:barChart>
      <c:catAx>
        <c:axId val="89427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33254"/>
        <c:crosses val="autoZero"/>
        <c:auto val="1"/>
        <c:lblAlgn val="ctr"/>
        <c:lblOffset val="100"/>
        <c:noMultiLvlLbl val="0"/>
      </c:catAx>
      <c:valAx>
        <c:axId val="11033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27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89D-312F-491D-8562-0CF981A0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8D2-3D79-4FC2-91A4-FAF087B7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25F-D733-4D2F-9C6F-D485FED6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E56-44D1-4D40-B393-75AC641B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FF9-6E30-4C7C-AFD5-370CAF61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62A-AFF5-4058-9AE6-751D1859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997-BDA1-4F39-A208-E1377BFA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E26-13DD-4B7F-858B-01333AB1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5CE-B46A-4EF1-8A20-83EFC43B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E65-8D69-401B-BDE2-211C4FCE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ABE-DCF4-47D7-A770-0CE5AA1F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559-EE55-4B07-88C8-9111144F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3D951-0C9D-4A22-9B74-65A007390D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