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930627"/>
        <c:axId val="50796340"/>
      </c:barChart>
      <c:catAx>
        <c:axId val="699306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796340"/>
        <c:crosses val="autoZero"/>
        <c:auto val="1"/>
        <c:lblAlgn val="ctr"/>
        <c:lblOffset val="100"/>
        <c:noMultiLvlLbl val="0"/>
      </c:catAx>
      <c:valAx>
        <c:axId val="507963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9306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55B4-9759-41DC-A21A-3FDB74F55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10CD-2CF8-41BD-B98B-E12C0B025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DF18-30CE-468E-AEFA-2A44D66F6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FD8B-16D8-465D-9A44-5DB85CAE1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8834-8BE2-46A5-90F7-78477DE30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72EA-38BA-4547-B979-22843D6FE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8CB1-55D8-45DB-BFAC-172C7C765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7490-4152-4CD8-86C4-087F480BA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D00B-1BBA-4E69-B160-A15FB6CFB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E382-3BA1-4D93-9D6F-3A4379329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8845-BB8E-4BA1-9479-B18D0BB3C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C625-CFA7-4D69-B801-D4AF2DBDB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FF58D8-309A-49A7-824F-50E73AF9E99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